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376-62D4-4D97-8058-740C1C51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CC7-CCA7-43B9-BCD5-30202B7B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E3F-5CB7-43A4-8747-41ED9002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B0E-8588-437D-8BB6-A884A8B0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E37-41D3-4D9D-BA6D-ED21E40C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F76-23B7-437D-89F6-0C3DBABE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AB0-A000-4A08-AAC9-4136493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8AA-2F01-45F5-9F88-92D0FE5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9CB-8990-4B3B-8AFA-694617E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930-DDBD-4DAD-8ED7-C7A2931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20C-C265-4566-9C4B-1357170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E25-1F63-45F0-9C0F-1455279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4C1-5325-4CE1-A6A3-0F36DFF5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Effect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 as estimate of 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ffere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iologic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3929" r="0" b="14495"/>
          <a:stretch/>
        </p:blipFill>
        <p:spPr>
          <a:xfrm>
            <a:off x="914400" y="5562720"/>
            <a:ext cx="7238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914400"/>
            <a:ext cx="6858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versus Difference Measures of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2760" y="1906560"/>
            <a:ext cx="3720960" cy="3110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Potent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Impa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86880" y="369720"/>
            <a:ext cx="566244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on formula for EF = I* /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9644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685800"/>
            <a:ext cx="5822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re Disease As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96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3T18:18:27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